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ct" ContentType="image/x-pict"/>
  <Override PartName="/ppt/media/image4.jpeg" ContentType="image/jpeg"/>
  <Override PartName="/ppt/media/image5.pct" ContentType="image/x-pict"/>
  <Override PartName="/ppt/media/image10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8040" y="732960"/>
            <a:ext cx="4892400" cy="366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C953-EA21-4CEA-9A0C-692EC3FA5E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92400" cy="3668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lysemous nouns &gt;= 3 in SemCo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92400" cy="3668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outs 20% of reuters financ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92400" cy="3668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outs 20% of reuters financ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92400" cy="3668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outs 20% of reuters financ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92400" cy="3668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92400" cy="3668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ur hypothesis that order of neighbours correlates with frequency of senses. Distributional similarity isn’t the same as freq, but on whole assume get more relational data for more frequent sen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92400" cy="3668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0 neigb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92400" cy="3668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cn BNC freq, l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2455-2E8A-4AD5-BC40-792D74C98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2F00-95BB-4C2E-8658-B8F3C0B9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ADD6-8CFB-475A-B229-BB30C8549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9907-2E66-4F0E-BC1C-42C9818BB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C8B2-E35D-4AFF-8978-470A435D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3826-4080-459E-851A-61291CC1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33D5-4536-4A62-918E-452032EB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48B3-3F1B-4636-B43B-209FBCFA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3E0D-C317-4D99-8C93-9BEF2441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D815-08A8-443D-89C9-A6BFD17C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29FD-3891-4BC6-A6C6-F8356315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D61C-1A58-4B6A-AECC-C9581344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0B72-41C4-4E17-8F50-922F711735B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ct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s.ualberta.ca/~lindek/demos/depsim.htm" TargetMode="External"/><Relationship Id="rId2" Type="http://schemas.openxmlformats.org/officeDocument/2006/relationships/hyperlink" Target="http://www.cs.ualberta.ca/~lindek/demos/depsim.htm" TargetMode="External"/><Relationship Id="rId3" Type="http://schemas.openxmlformats.org/officeDocument/2006/relationships/hyperlink" Target="http://www.cs.ualberta.ca/~lindek/demos/depsim.htm" TargetMode="External"/><Relationship Id="rId4" Type="http://schemas.openxmlformats.org/officeDocument/2006/relationships/hyperlink" Target="http://www.cs.ualberta.ca/~lindek/demos/depsim.htm" TargetMode="External"/><Relationship Id="rId5" Type="http://schemas.openxmlformats.org/officeDocument/2006/relationships/hyperlink" Target="http://www.cs.ualberta.ca/~lindek/demos/depsim.htm" TargetMode="External"/><Relationship Id="rId6" Type="http://schemas.openxmlformats.org/officeDocument/2006/relationships/hyperlink" Target="http://www.cs.ualberta.ca/~lindek/demos/depsim.htm" TargetMode="External"/><Relationship Id="rId7" Type="http://schemas.openxmlformats.org/officeDocument/2006/relationships/hyperlink" Target="http://www.cs.ualberta.ca/~lindek/demos/depsim.htm" TargetMode="External"/><Relationship Id="rId8" Type="http://schemas.openxmlformats.org/officeDocument/2006/relationships/hyperlink" Target="http://www.cs.ualberta.ca/~lindek/demos/depsim.htm" TargetMode="External"/><Relationship Id="rId9" Type="http://schemas.openxmlformats.org/officeDocument/2006/relationships/hyperlink" Target="http://www.cs.ualberta.ca/~lindek/demos/depsim.htm" TargetMode="External"/><Relationship Id="rId10" Type="http://schemas.openxmlformats.org/officeDocument/2006/relationships/hyperlink" Target="http://www.cs.ualberta.ca/~lindek/demos/depsim.htm" TargetMode="External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earch.cpan.org/author/SID/WordNet-Similarity" TargetMode="External"/><Relationship Id="rId2" Type="http://schemas.openxmlformats.org/officeDocument/2006/relationships/hyperlink" Target="http://search.cpan.org/author/SID/WordNet-Similarity" TargetMode="External"/><Relationship Id="rId3" Type="http://schemas.openxmlformats.org/officeDocument/2006/relationships/hyperlink" Target="http://search.cpan.org/author/SID/WordNet-Similarity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Arial"/>
              </a:rPr>
              <a:t>Computing with Word Meaning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120" y="2971800"/>
            <a:ext cx="807732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ohn Carro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versity of Suss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with thanks to Diana McCarthy, Rob Koeling, Julie Weeds, EU IST FP5, EPSR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4360" y="692280"/>
            <a:ext cx="79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00000" y="155736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590920" y="981000"/>
            <a:ext cx="4535280" cy="960840"/>
            <a:chOff x="2590920" y="981000"/>
            <a:chExt cx="4535280" cy="960840"/>
          </a:xfrm>
        </p:grpSpPr>
        <p:sp>
          <p:nvSpPr>
            <p:cNvPr id="81" name=""/>
            <p:cNvSpPr/>
            <p:nvPr/>
          </p:nvSpPr>
          <p:spPr>
            <a:xfrm>
              <a:off x="3888000" y="981000"/>
              <a:ext cx="1944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eighbou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5400000">
              <a:off x="4635000" y="-596160"/>
              <a:ext cx="161280" cy="3960720"/>
            </a:xfrm>
            <a:custGeom>
              <a:avLst/>
              <a:gdLst>
                <a:gd name="textAreaLeft" fmla="*/ 102960 w 161280"/>
                <a:gd name="textAreaRight" fmla="*/ 161640 w 161280"/>
                <a:gd name="textAreaTop" fmla="*/ 102960 h 3960720"/>
                <a:gd name="textAreaBottom" fmla="*/ 3857760 h 396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90920" y="1573560"/>
              <a:ext cx="45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tree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 (0.3) </a:t>
              </a: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leaf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 (0.2) … </a:t>
              </a: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factory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 (0.1) 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-1228680" y="4005360"/>
            <a:ext cx="2457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17040" y="2496960"/>
            <a:ext cx="3891240" cy="271008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0" y="2205000"/>
            <a:ext cx="2517840" cy="4248360"/>
            <a:chOff x="0" y="2205000"/>
            <a:chExt cx="2517840" cy="4248360"/>
          </a:xfrm>
        </p:grpSpPr>
        <p:sp>
          <p:nvSpPr>
            <p:cNvPr id="87" name=""/>
            <p:cNvSpPr/>
            <p:nvPr/>
          </p:nvSpPr>
          <p:spPr>
            <a:xfrm>
              <a:off x="1222200" y="472464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ndustri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0" y="2205000"/>
              <a:ext cx="2373480" cy="3816360"/>
              <a:chOff x="0" y="2205000"/>
              <a:chExt cx="2373480" cy="3816360"/>
            </a:xfrm>
          </p:grpSpPr>
          <p:sp>
            <p:nvSpPr>
              <p:cNvPr id="89" name=""/>
              <p:cNvSpPr/>
              <p:nvPr/>
            </p:nvSpPr>
            <p:spPr>
              <a:xfrm>
                <a:off x="1150920" y="2205000"/>
                <a:ext cx="69840" cy="3816360"/>
              </a:xfrm>
              <a:custGeom>
                <a:avLst/>
                <a:gdLst>
                  <a:gd name="textAreaLeft" fmla="*/ 44640 w 69840"/>
                  <a:gd name="textAreaRight" fmla="*/ 69840 w 69840"/>
                  <a:gd name="textAreaTop" fmla="*/ 99360 h 3816360"/>
                  <a:gd name="textAreaBottom" fmla="*/ 3717000 h 381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3932280"/>
                <a:ext cx="97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sense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222200" y="2708280"/>
                <a:ext cx="11512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403280" y="2637000"/>
                <a:ext cx="67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flora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9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2000" y="3068640"/>
                <a:ext cx="936360" cy="885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4" name="" descr=""/>
            <p:cNvPicPr/>
            <p:nvPr/>
          </p:nvPicPr>
          <p:blipFill>
            <a:blip r:embed="rId3"/>
            <a:stretch/>
          </p:blipFill>
          <p:spPr>
            <a:xfrm>
              <a:off x="1403280" y="5156280"/>
              <a:ext cx="874800" cy="129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900000" y="12682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pl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52280"/>
            <a:ext cx="8763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ccffff"/>
                </a:solidFill>
                <a:latin typeface="Arial"/>
              </a:rPr>
              <a:t>Calculating Prevalence of Word Sense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590920" y="2681280"/>
            <a:ext cx="5668560" cy="1675800"/>
            <a:chOff x="2590920" y="2681280"/>
            <a:chExt cx="5668560" cy="1675800"/>
          </a:xfrm>
        </p:grpSpPr>
        <p:sp>
          <p:nvSpPr>
            <p:cNvPr id="98" name=""/>
            <p:cNvSpPr/>
            <p:nvPr/>
          </p:nvSpPr>
          <p:spPr>
            <a:xfrm>
              <a:off x="3277440" y="2681280"/>
              <a:ext cx="186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wns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floral,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tre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76720" y="3048120"/>
              <a:ext cx="1752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68800" y="2986200"/>
              <a:ext cx="18302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</a:t>
              </a:r>
              <a:r>
                <a:rPr b="0" i="1" lang="en-US" sz="18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wns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,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tre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92360" y="28195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.3 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22800" y="2681280"/>
              <a:ext cx="184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wns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floral,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leaf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21360" y="3048120"/>
              <a:ext cx="1752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37560" y="2986200"/>
              <a:ext cx="18043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</a:t>
              </a:r>
              <a:r>
                <a:rPr b="0" i="1" lang="en-US" sz="18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wns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,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leaf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05520" y="2819520"/>
              <a:ext cx="90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+ 0.2 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07480" y="351936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wns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floral,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factory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06760" y="3886200"/>
              <a:ext cx="2055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09640" y="3824280"/>
              <a:ext cx="21229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</a:t>
              </a:r>
              <a:r>
                <a:rPr b="0" i="1" lang="en-US" sz="18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wns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,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factory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90920" y="3657600"/>
              <a:ext cx="90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+ 0.1 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850160" y="28335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640480" y="36720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590920" y="4952880"/>
            <a:ext cx="6551280" cy="1675800"/>
            <a:chOff x="2590920" y="4952880"/>
            <a:chExt cx="6551280" cy="1675800"/>
          </a:xfrm>
        </p:grpSpPr>
        <p:sp>
          <p:nvSpPr>
            <p:cNvPr id="113" name=""/>
            <p:cNvSpPr/>
            <p:nvPr/>
          </p:nvSpPr>
          <p:spPr>
            <a:xfrm>
              <a:off x="3278160" y="4952880"/>
              <a:ext cx="22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wns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industrial,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tre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76720" y="5319360"/>
              <a:ext cx="2209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97400" y="5257440"/>
              <a:ext cx="18302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</a:t>
              </a:r>
              <a:r>
                <a:rPr b="0" i="1" lang="en-US" sz="18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wns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,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tre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592360" y="509076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.3 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80720" y="4952880"/>
              <a:ext cx="22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wns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industrial,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leaf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78560" y="5319360"/>
              <a:ext cx="218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04280" y="5257440"/>
              <a:ext cx="18043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</a:t>
              </a:r>
              <a:r>
                <a:rPr b="0" i="1" lang="en-US" sz="18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wns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,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leaf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81800" y="5090760"/>
              <a:ext cx="90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+ 0.2 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08200" y="5790960"/>
              <a:ext cx="257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wns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industrial,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factory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06760" y="6157800"/>
              <a:ext cx="2513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38240" y="6095880"/>
              <a:ext cx="21229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</a:t>
              </a:r>
              <a:r>
                <a:rPr b="0" i="1" lang="en-US" sz="18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wns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,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factory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90920" y="5929200"/>
              <a:ext cx="90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+ 0.1 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732880" y="51051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41960" y="594324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320760"/>
            <a:ext cx="792792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ffff"/>
                </a:solidFill>
                <a:latin typeface="Arial"/>
              </a:rPr>
              <a:t>Qualitative Analysi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752120"/>
            <a:ext cx="827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me disagreements with SemCor are intuitively plau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 example: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pi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st sense in SemC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st sense in BNC ranking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ighbours: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ube, cable, wire, tank, hole, cyli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own corpus predates BNC (1961 vs 1975–199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own contains more fiction (6 / 15 genres vs 20% / 80% spl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724280" y="2895480"/>
            <a:ext cx="1081080" cy="758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095880" y="3352680"/>
            <a:ext cx="792360" cy="77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ffff"/>
                </a:solidFill>
                <a:latin typeface="Arial"/>
              </a:rPr>
              <a:t>SENSEVAL-2 WSD – Result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38080" y="1676520"/>
          <a:ext cx="7467840" cy="2624040"/>
        </p:xfrm>
        <a:graphic>
          <a:graphicData uri="http://schemas.openxmlformats.org/drawingml/2006/table">
            <a:tbl>
              <a:tblPr/>
              <a:tblGrid>
                <a:gridCol w="2494080"/>
                <a:gridCol w="2459160"/>
                <a:gridCol w="2514600"/>
              </a:tblGrid>
              <a:tr h="5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cis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omat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mC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pper bou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685800" y="54864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n nouns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ot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SemCor, automatic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got 67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4800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 polysemous nouns with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≥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0 corpus rel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75880" y="442800"/>
            <a:ext cx="7529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ffff"/>
                </a:solidFill>
                <a:latin typeface="Arial"/>
              </a:rPr>
              <a:t>Experiments with Domain Data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cuments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NC written (90M wor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uters Sports domain (9.1 million wor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uters Finance domain (32.5 million wor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puted thesaurus for each corp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lected 40 representative noun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0" y="640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620120" y="3417840"/>
            <a:ext cx="755640" cy="468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618320" y="2773440"/>
            <a:ext cx="611280" cy="5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75880" y="442800"/>
            <a:ext cx="7529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ffff"/>
                </a:solidFill>
                <a:latin typeface="Arial"/>
              </a:rPr>
              <a:t>Creating the 3 Gold Standard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ord selection: 2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bject Field Codes (at least 1 sense labelled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sport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d 1 labelled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econom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e701"/>
                </a:solidFill>
                <a:latin typeface="Arial"/>
              </a:rPr>
              <a:t>club, manager, record, right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, bill, check, competitio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onversion, crew, delivery, division, fishing, reserve, retur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core, </a:t>
            </a:r>
            <a:r>
              <a:rPr b="0" i="1" lang="en-GB" sz="2000" spc="-1" strike="noStrike">
                <a:solidFill>
                  <a:srgbClr val="00b000"/>
                </a:solidFill>
                <a:latin typeface="Arial"/>
              </a:rPr>
              <a:t>receiver,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e701"/>
                </a:solidFill>
                <a:latin typeface="Arial"/>
              </a:rPr>
              <a:t>High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/ medium /</a:t>
            </a:r>
            <a:r>
              <a:rPr b="0" lang="en-GB" sz="1800" spc="-1" strike="noStrike">
                <a:solidFill>
                  <a:srgbClr val="00b000"/>
                </a:solidFill>
                <a:latin typeface="Arial"/>
              </a:rPr>
              <a:t> low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equency in BN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main sal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ort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fan, star, transfer, striker, goal, title, tie, coa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inanc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ackage, chip, bond, market, strike, bank, share, tar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qual: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will, phase, half, top, performance, level, coun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0" y="640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156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ffff"/>
                </a:solidFill>
                <a:latin typeface="Arial"/>
              </a:rPr>
              <a:t>Creating the 3 Gold Standard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25 sentences containing each word randomly sampled from each corp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me noise filte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rst 100 sentences sel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t up as an Open Mind Word Expert annotation t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 annot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65% inter-annotator agre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0" y="640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597800" cy="65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ffff"/>
                </a:solidFill>
                <a:latin typeface="Arial"/>
              </a:rPr>
              <a:t>Domain Sense Distribution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990720" y="1905120"/>
          <a:ext cx="7086600" cy="4162320"/>
        </p:xfrm>
        <a:graphic>
          <a:graphicData uri="http://schemas.openxmlformats.org/drawingml/2006/table">
            <a:tbl>
              <a:tblPr/>
              <a:tblGrid>
                <a:gridCol w="1676520"/>
                <a:gridCol w="1752480"/>
                <a:gridCol w="1752480"/>
                <a:gridCol w="190512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N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 freq    (f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 freq    (f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or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 freq    (f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eti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.0       (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.7       (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.8       (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.9       (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.0       (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1.8       (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.7       (6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.7       (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.9       (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.1       (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.0       (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.0      (unl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7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ffff"/>
                </a:solidFill>
                <a:latin typeface="Arial"/>
              </a:rPr>
              <a:t>Domain Sense Evaluation – Result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838080" y="2286000"/>
          <a:ext cx="7239240" cy="3274920"/>
        </p:xfrm>
        <a:graphic>
          <a:graphicData uri="http://schemas.openxmlformats.org/drawingml/2006/table">
            <a:tbl>
              <a:tblPr/>
              <a:tblGrid>
                <a:gridCol w="2590920"/>
                <a:gridCol w="4648320"/>
              </a:tblGrid>
              <a:tr h="104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in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</a:t>
                      </a:r>
                      <a:r>
                        <a:rPr b="0" i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st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NC      Finance   Spor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N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or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mC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lang="en-GB" sz="24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40.7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43.3         33.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.1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en-GB" sz="24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49.9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24.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.7            19.7         </a:t>
                      </a:r>
                      <a:r>
                        <a:rPr b="1" lang="en-GB" sz="24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43.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8            19.6         19.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.0 (32.9)     33.9 (35.0)  16.3 (16.8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utomatic method gives excellent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64% precision on nouns in SENSEVAL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67% for nouns that are not in SemC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rst sense from BNC shows intuitive mismatches compared to SemC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rst senses vary according to domain (Finance and Spor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cquiring first senses from domain-relevant text much more accurate for some 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6600" y="320760"/>
            <a:ext cx="79308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ffff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Qualitative analysis and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periments with domain specific corpo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clusions and future dir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93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ffff"/>
                </a:solidFill>
                <a:latin typeface="Arial"/>
              </a:rPr>
              <a:t>Future Work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ok specifically for words where sense distribution is highly skewed, and where it is domain speci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lication to verbs, adjectives, adver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ther sense inventories, langu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fer sense frequency distributions and combine with local context, for improved (domain-sensitive) WS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657600" y="2133720"/>
            <a:ext cx="1814400" cy="145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ccffff"/>
                </a:solidFill>
                <a:latin typeface="Arial"/>
              </a:rPr>
              <a:t>Motivation: Word Sense Disambiguation</a:t>
            </a:r>
            <a:endParaRPr b="0" lang="en-US" sz="3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ny human language processing applications compute with word mean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t usually approximate these by word forms/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ccurate WSD might improve applications, e.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A: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Which plants hate lim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T: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Football match abandoned after fans ri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IR: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mobiles radiation ri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nse inventory: Word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412600" y="4637160"/>
            <a:ext cx="2054880" cy="1991880"/>
            <a:chOff x="5412600" y="4637160"/>
            <a:chExt cx="2054880" cy="1991880"/>
          </a:xfrm>
        </p:grpSpPr>
        <p:sp>
          <p:nvSpPr>
            <p:cNvPr id="55" name=""/>
            <p:cNvSpPr/>
            <p:nvPr/>
          </p:nvSpPr>
          <p:spPr>
            <a:xfrm>
              <a:off x="6386400" y="463716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beverag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400800" y="4957560"/>
              <a:ext cx="4572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58000" y="4957560"/>
              <a:ext cx="7596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0" y="4957560"/>
              <a:ext cx="60948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869080" y="5214960"/>
              <a:ext cx="102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lcoholi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beverag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5867280" y="5796000"/>
              <a:ext cx="45720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324480" y="5796000"/>
              <a:ext cx="7632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324480" y="5796000"/>
              <a:ext cx="68580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12600" y="6048360"/>
              <a:ext cx="642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beer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l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6600" y="604836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8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ffff"/>
                </a:solidFill>
                <a:latin typeface="Arial"/>
              </a:rPr>
              <a:t>Motivation: First Sens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SD systems usually trained on manually sense tagg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irst sense heuristic as back-off if context based model fai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tributions of word senses are often highly skew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 first sense heuristic is very power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ccffff"/>
                </a:solidFill>
                <a:latin typeface="Arial"/>
              </a:rPr>
              <a:t>SENSEVAL-2 English All Words Task</a:t>
            </a:r>
            <a:endParaRPr b="0" lang="en-US" sz="3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7198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ffff"/>
                </a:solidFill>
                <a:latin typeface="Arial"/>
              </a:rPr>
              <a:t>Obtaining First Sense Informa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3680" y="1676520"/>
            <a:ext cx="7489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rive first sense information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machine-readable diction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mC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 is a shortage of hand-tagged text, even for Engl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in SemCor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ig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embry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first sense of some words varies according to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s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pute information automaticall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ffff"/>
                </a:solidFill>
                <a:latin typeface="Arial"/>
              </a:rPr>
              <a:t>Automatically Acquired Thesaurus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800100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vide nearest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neighbours for target words using distributional similarity (e.g. Lin, 1998) </a:t>
            </a:r>
            <a:r>
              <a:rPr b="0" lang="en-GB" sz="24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GB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cs</a:t>
            </a:r>
            <a:r>
              <a:rPr b="0" lang="en-GB" sz="24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.</a:t>
            </a:r>
            <a:r>
              <a:rPr b="0" lang="en-GB" sz="240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ualberta</a:t>
            </a:r>
            <a:r>
              <a:rPr b="0" lang="en-GB" sz="2400" spc="-1" strike="noStrike" u="sng">
                <a:solidFill>
                  <a:srgbClr val="66ccff"/>
                </a:solidFill>
                <a:uFillTx/>
                <a:latin typeface="Arial"/>
                <a:hlinkClick r:id="rId5"/>
              </a:rPr>
              <a:t>.ca/~</a:t>
            </a:r>
            <a:r>
              <a:rPr b="0" lang="en-GB" sz="2400" spc="-1" strike="noStrike" u="sng">
                <a:solidFill>
                  <a:srgbClr val="66ccff"/>
                </a:solidFill>
                <a:uFillTx/>
                <a:latin typeface="Arial"/>
                <a:hlinkClick r:id="rId6"/>
              </a:rPr>
              <a:t>lindek</a:t>
            </a:r>
            <a:r>
              <a:rPr b="0" lang="en-GB" sz="2400" spc="-1" strike="noStrike" u="sng">
                <a:solidFill>
                  <a:srgbClr val="66ccff"/>
                </a:solidFill>
                <a:uFillTx/>
                <a:latin typeface="Arial"/>
                <a:hlinkClick r:id="rId7"/>
              </a:rPr>
              <a:t>/demos/</a:t>
            </a:r>
            <a:r>
              <a:rPr b="0" lang="en-GB" sz="2400" spc="-1" strike="noStrike" u="sng">
                <a:solidFill>
                  <a:srgbClr val="66ccff"/>
                </a:solidFill>
                <a:uFillTx/>
                <a:latin typeface="Arial"/>
                <a:hlinkClick r:id="rId8"/>
              </a:rPr>
              <a:t>depsim</a:t>
            </a:r>
            <a:r>
              <a:rPr b="0" lang="en-GB" sz="2400" spc="-1" strike="noStrike" u="sng">
                <a:solidFill>
                  <a:srgbClr val="66ccff"/>
                </a:solidFill>
                <a:uFillTx/>
                <a:latin typeface="Arial"/>
                <a:hlinkClick r:id="rId9"/>
              </a:rPr>
              <a:t>.</a:t>
            </a:r>
            <a:r>
              <a:rPr b="0" lang="en-GB" sz="2400" spc="-1" strike="noStrike" u="sng">
                <a:solidFill>
                  <a:srgbClr val="66ccff"/>
                </a:solidFill>
                <a:uFillTx/>
                <a:latin typeface="Arial"/>
                <a:hlinkClick r:id="rId10"/>
              </a:rPr>
              <a:t>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ach neighbour associated with a distributional similarity score to target w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ordered nearest neighbours of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s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supersta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0.166)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playe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0.157)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teammat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0.121)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cto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0.121) …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galax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0.078) …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sun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0.077) …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world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0.063) …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planet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0.06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368280"/>
            <a:ext cx="79311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ffff"/>
                </a:solidFill>
                <a:latin typeface="Arial"/>
              </a:rPr>
              <a:t>Computing a Thesauru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rammatical relations from corpus parses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context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bject-of, direct object-of, modifying noun or adje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pute similarity scores between word v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09480" y="3276720"/>
          <a:ext cx="8077320" cy="2452680"/>
        </p:xfrm>
        <a:graphic>
          <a:graphicData uri="http://schemas.openxmlformats.org/drawingml/2006/table">
            <a:tbl>
              <a:tblPr/>
              <a:tblGrid>
                <a:gridCol w="990720"/>
                <a:gridCol w="1066680"/>
                <a:gridCol w="1067040"/>
                <a:gridCol w="1066680"/>
                <a:gridCol w="1066680"/>
                <a:gridCol w="1067040"/>
                <a:gridCol w="1218960"/>
                <a:gridCol w="533520"/>
              </a:tblGrid>
              <a:tr h="83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ect-of 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leb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ifying noun 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tis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ect-of 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e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ifying adjective 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n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ifying adjective 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ta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ect-of 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tograp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y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lax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ffff"/>
                </a:solidFill>
                <a:latin typeface="Arial"/>
              </a:rPr>
              <a:t>Associating Neighbours with Senses of a Target Word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246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e the WordNet Similarity Pack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reely available (thanks to Siddharth Patwardhan and Ted Pedersen)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://search.</a:t>
            </a:r>
            <a:r>
              <a:rPr b="0" lang="en-GB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cpan</a:t>
            </a:r>
            <a:r>
              <a:rPr b="0" lang="en-GB" sz="24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.org/author/SID/WordNet-Simila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lements a number of similarity scores defined over WordNet, e.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esk: word overlap of glo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cn: frequency-modified topological di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John Carroll</cp:lastModifiedBy>
  <cp:lastPrinted>2005-12-04T21:07:56Z</cp:lastPrinted>
  <dcterms:modified xsi:type="dcterms:W3CDTF">2005-12-04T21:17:57Z</dcterms:modified>
  <cp:revision>248</cp:revision>
  <dc:subject/>
  <dc:title>PowerPoint Presentation</dc:title>
</cp:coreProperties>
</file>